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BA0B-F558-4B25-88BE-AB3C21C8F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8D9F-5611-4DA4-9077-E6FD12883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B5A9-5050-4C3D-AB6A-CDA1667EC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FC34-8B72-4B20-A769-7E12A5F01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1D9F-82F2-471B-A4E0-44B9949D5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8933-8CF2-4620-A71E-A53221560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659E-75D9-44B7-9F97-B68FD354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2B9D-0F6D-4870-805E-885D7D80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4096-F8B9-492F-B8D1-88B72B05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0B40-7048-4ED4-870B-E6961D8C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EB5E-503C-43EF-99DA-59F8F2D6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EEE7-BC16-472C-AEA3-B5092E7F6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76040-41DC-4A17-B63E-54E218A25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file:///../../../../Local%20Settings/Thinking%20Maps%20Training/Oklahoma/Day%20Four.ppt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../../Local%20Settings/Thinking%20Maps%20Training/Oklahoma/Day%20Four.ppt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49536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00200" y="3352680"/>
            <a:ext cx="1600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square root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91320" y="3581280"/>
            <a:ext cx="15238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arab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179360"/>
            <a:ext cx="9144000" cy="52214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80880" y="30492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obust Vocabulary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447920" y="228600"/>
            <a:ext cx="6476760" cy="647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1447560" y="3733920"/>
            <a:ext cx="236196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4572000" y="2286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4120" y="3733920"/>
            <a:ext cx="25905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57400" y="914400"/>
            <a:ext cx="5030640" cy="5105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00200" y="228600"/>
            <a:ext cx="80028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76212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n addition, as well as, extrem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1886040"/>
            <a:ext cx="914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  <a:ea typeface="Arial"/>
              </a:rPr>
              <a:t>ad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/>
          </p:cNvPr>
          <p:cNvSpPr/>
          <p:nvPr/>
        </p:nvSpPr>
        <p:spPr>
          <a:xfrm>
            <a:off x="3733920" y="2514600"/>
            <a:ext cx="167616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971800" y="1581120"/>
            <a:ext cx="1657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It’s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o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hot!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124080"/>
            <a:ext cx="118116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I want some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o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2286000"/>
            <a:ext cx="16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he,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o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, tried to win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781680" y="5943600"/>
            <a:ext cx="1067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w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6520" y="5200560"/>
            <a:ext cx="10285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Cardinal number between one and th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14800" y="6095880"/>
            <a:ext cx="16002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  <a:ea typeface="Arial"/>
              </a:rPr>
              <a:t>adjec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4495680"/>
            <a:ext cx="1600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I’d lik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tickets, please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81280" y="5105520"/>
            <a:ext cx="211464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dogs approached the bo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52880" y="4114800"/>
            <a:ext cx="13716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here ar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w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papers d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162920" y="304920"/>
            <a:ext cx="838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58000" y="1981080"/>
            <a:ext cx="9144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Comic Sans MS"/>
                <a:ea typeface="Arial"/>
              </a:rPr>
              <a:t>ad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24480" y="9144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in the direction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48320" y="1295280"/>
            <a:ext cx="13716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hey headed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the mal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81480" y="213372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hrow the bal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h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486400" y="2971800"/>
            <a:ext cx="1371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She took her pie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omic Sans MS"/>
                <a:ea typeface="Arial"/>
              </a:rPr>
              <a:t>to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 the f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 rot="5400000">
            <a:off x="-1983960" y="3108960"/>
            <a:ext cx="582444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Comic Sans MS"/>
              </a:rPr>
              <a:t>Correct Word Meaning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228600"/>
            <a:ext cx="6477120" cy="647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371240" y="3733920"/>
            <a:ext cx="243828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4572000" y="22860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34120" y="3733920"/>
            <a:ext cx="251460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057400" y="914400"/>
            <a:ext cx="5030640" cy="51055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76212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d to indicate an altern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228600"/>
            <a:ext cx="21337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con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1"/>
          </p:cNvPr>
          <p:cNvSpPr/>
          <p:nvPr/>
        </p:nvSpPr>
        <p:spPr>
          <a:xfrm>
            <a:off x="3733920" y="2514600"/>
            <a:ext cx="167616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971800" y="1581120"/>
            <a:ext cx="16574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Hot or col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38280" y="2286000"/>
            <a:ext cx="160020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I didn’t know whether to laugh or cry.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3429000"/>
            <a:ext cx="1619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his, that, or the 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95680" y="685800"/>
            <a:ext cx="3276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Used to indicate a synonymous 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quival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x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5880" y="228600"/>
            <a:ext cx="190512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conj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1905120"/>
            <a:ext cx="2114280" cy="7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Acrophobia, or fear of great he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629400" y="6248520"/>
            <a:ext cx="914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Comic Sans MS"/>
                <a:ea typeface="Arial"/>
              </a:rPr>
              <a:t>no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6019920"/>
            <a:ext cx="457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A logical operator that returns a true value if one or both operators are tr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4343400"/>
            <a:ext cx="2286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The following are both true statement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+ 3 = 7 or 2 &lt;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 + 3 = 5 or 2 &lt;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 rot="5400000">
            <a:off x="-1983960" y="3108960"/>
            <a:ext cx="5824440" cy="638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Comic Sans MS"/>
              </a:rPr>
              <a:t>Correct Word Meanings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Comic Sans MS"/>
              <a:ea typeface="Comic Sans MS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 flipH="1">
            <a:off x="304920" y="34290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4564080" y="228600"/>
            <a:ext cx="0" cy="647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049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What is it? (description, explanation, or examp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69480" y="345960"/>
            <a:ext cx="398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What is it like?  (properties or par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49840" y="625320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Linguistic (language-b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523880"/>
            <a:ext cx="3124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 linear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A straight line with a slope of ½ and a y intercept of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1523880"/>
            <a:ext cx="32004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has a line of sym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m = ½ and b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2286000"/>
            <a:ext cx="198144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y = ½ 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52800" y="625320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Comic Sans MS"/>
                <a:ea typeface="Arial"/>
              </a:rPr>
              <a:t>Non-linguistic (imagery-bas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943600" y="3581280"/>
            <a:ext cx="1714680" cy="1724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371600" y="3809880"/>
            <a:ext cx="30481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y is one-half of a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50"/>
              </a:spcAft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the output is half of the in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952880" y="4343400"/>
            <a:ext cx="790560" cy="971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762120"/>
            <a:ext cx="8229600" cy="556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04920" y="152280"/>
            <a:ext cx="8610480" cy="65534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8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500"/>
                            </p:stCondLst>
                            <p:childTnLst>
                              <p:par>
                                <p:cTn id="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1600" y="380880"/>
            <a:ext cx="6477120" cy="647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914400"/>
            <a:ext cx="5030640" cy="5105520"/>
          </a:xfrm>
          <a:prstGeom prst="ellipse">
            <a:avLst/>
          </a:prstGeom>
          <a:solidFill>
            <a:srgbClr val="cc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1371600" y="3429000"/>
            <a:ext cx="6477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572000" y="228600"/>
            <a:ext cx="0" cy="6477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390320" y="3459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hat is it? (Catego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84680" y="34596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What is it like?  (Proper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361520" y="62532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1447920"/>
            <a:ext cx="168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geometric prope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33720" y="2286000"/>
            <a:ext cx="182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shape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176544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congruent sides (2 sides of equal leng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2603520"/>
            <a:ext cx="1904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congruent angles (pair of equal angl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91120" y="1171440"/>
            <a:ext cx="1990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  <a:ea typeface="Arial"/>
              </a:rPr>
              <a:t>has a line of symmet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2590920"/>
            <a:ext cx="1676160" cy="167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  <a:ea typeface="Arial"/>
              </a:rPr>
              <a:t>isosce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51680" y="617688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Arial"/>
              </a:rPr>
              <a:t>Non-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895480" y="5105520"/>
            <a:ext cx="1809720" cy="405000"/>
            <a:chOff x="2895480" y="5105520"/>
            <a:chExt cx="1809720" cy="405000"/>
          </a:xfrm>
        </p:grpSpPr>
        <p:sp>
          <p:nvSpPr>
            <p:cNvPr id="119" name=""/>
            <p:cNvSpPr/>
            <p:nvPr/>
          </p:nvSpPr>
          <p:spPr>
            <a:xfrm>
              <a:off x="3312720" y="5111640"/>
              <a:ext cx="139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rapezoi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95480" y="5105520"/>
              <a:ext cx="533160" cy="380880"/>
            </a:xfrm>
            <a:custGeom>
              <a:avLst/>
              <a:gdLst>
                <a:gd name="textAreaLeft" fmla="*/ 117000 w 533160"/>
                <a:gd name="textAreaRight" fmla="*/ 416160 w 533160"/>
                <a:gd name="textAreaTop" fmla="*/ 83520 h 380880"/>
                <a:gd name="textAreaBottom" fmla="*/ 29736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2133720" y="3505320"/>
            <a:ext cx="1682280" cy="481320"/>
            <a:chOff x="2133720" y="3505320"/>
            <a:chExt cx="1682280" cy="481320"/>
          </a:xfrm>
        </p:grpSpPr>
        <p:sp>
          <p:nvSpPr>
            <p:cNvPr id="122" name=""/>
            <p:cNvSpPr/>
            <p:nvPr/>
          </p:nvSpPr>
          <p:spPr>
            <a:xfrm>
              <a:off x="2620440" y="3587760"/>
              <a:ext cx="119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triang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133720" y="3505320"/>
              <a:ext cx="609840" cy="380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5029200" y="3962520"/>
            <a:ext cx="1754280" cy="914400"/>
            <a:chOff x="5029200" y="3962520"/>
            <a:chExt cx="1754280" cy="914400"/>
          </a:xfrm>
        </p:grpSpPr>
        <p:sp>
          <p:nvSpPr>
            <p:cNvPr id="125" name=""/>
            <p:cNvSpPr/>
            <p:nvPr/>
          </p:nvSpPr>
          <p:spPr>
            <a:xfrm>
              <a:off x="5410440" y="396252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scalene triang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29200" y="4267080"/>
              <a:ext cx="914400" cy="609840"/>
            </a:xfrm>
            <a:prstGeom prst="rtTriangl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2438280" y="4205160"/>
            <a:ext cx="2133720" cy="703800"/>
            <a:chOff x="2438280" y="4205160"/>
            <a:chExt cx="2133720" cy="703800"/>
          </a:xfrm>
        </p:grpSpPr>
        <p:sp>
          <p:nvSpPr>
            <p:cNvPr id="128" name=""/>
            <p:cNvSpPr/>
            <p:nvPr/>
          </p:nvSpPr>
          <p:spPr>
            <a:xfrm>
              <a:off x="3016080" y="4205160"/>
              <a:ext cx="1555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equilateral</a:t>
              </a:r>
              <a:r>
                <a:rPr b="1" lang="en-US" sz="1800" spc="-1" strike="noStrike">
                  <a:solidFill>
                    <a:srgbClr val="000000"/>
                  </a:solidFill>
                  <a:latin typeface="Comic Sans MS"/>
                </a:rPr>
                <a:t> triang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438280" y="4205160"/>
              <a:ext cx="584280" cy="4842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9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5T13:12:46Z</dcterms:created>
  <dc:creator>Chris Yeager</dc:creator>
  <dc:description/>
  <dc:language>en-US</dc:language>
  <cp:lastModifiedBy>Chris Yeager</cp:lastModifiedBy>
  <dcterms:modified xsi:type="dcterms:W3CDTF">2006-02-25T13:16:45Z</dcterms:modified>
  <cp:revision>1</cp:revision>
  <dc:subject/>
  <dc:title>Slide 1</dc:title>
</cp:coreProperties>
</file>